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714B14C-8C71-44C0-ABAA-4CA32B942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39760" y="681120"/>
            <a:ext cx="4552920" cy="3414600"/>
          </a:xfrm>
          <a:prstGeom prst="rect">
            <a:avLst/>
          </a:prstGeom>
          <a:ln w="0">
            <a:noFill/>
          </a:ln>
        </p:spPr>
      </p:sp>
      <p:sp>
        <p:nvSpPr>
          <p:cNvPr id="764"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4440" y="687240"/>
            <a:ext cx="4567320" cy="3426120"/>
          </a:xfrm>
          <a:prstGeom prst="rect">
            <a:avLst/>
          </a:prstGeom>
          <a:ln w="0">
            <a:noFill/>
          </a:ln>
        </p:spPr>
      </p:sp>
      <p:sp>
        <p:nvSpPr>
          <p:cNvPr id="766"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8A1CC7-0CFC-4AB9-AE41-CF0B57D182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24D1A6-C33A-4A35-AB3F-704283F7A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E8CF5C-6C01-4A6D-81E9-BF8BDEBA5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065CB7-96F5-4792-8FDF-C5E3181F02B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F9562-E2E0-486E-8B93-E436B4724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3CF05B7-B6D7-4286-8A60-6910E19FA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2A58731-EBE8-4B28-8EBA-7DE2BD644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BB89E54D-BA13-4836-BEEA-3C4468CFD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FD80D1CF-873D-4744-B858-32E19EC7C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77E9ECD-170C-426E-9E6C-96A6E1A1E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8E84E6B7-1F94-4B79-8C7E-4F779210E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15191-2C3F-4419-98F9-F75A23A9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701A777C-24B8-4481-80F4-C8E27C72E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9D0E101C-39DE-4C48-ADCC-12A63E5DD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6A33519B-534E-4DDC-8406-4D67E90A7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180343C7-DA79-478D-A5D5-7381D5039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66195C86-51AE-4431-A3EE-97E7E07869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5C9D70-57F5-4BD9-96FD-9C12AB8E5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73DC6-C194-414C-A4AE-A25B0050C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487BAB47-E30A-4E65-9D9C-4171AEDD8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DD240F7-AF28-4AAC-A8C7-BE99036C4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BC7BD-1ADC-4327-A327-5E59761F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27B57F-7904-46B5-AC77-E0D2DDEC6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F8306-0BC6-4271-A4E8-5117598A0ED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5E7D-FFB4-4E5A-B4BA-E4739D41F4C5}"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584E-1FE4-42A4-AEB1-8D07F96404B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54AE-78C5-4D24-93B0-D8EEEB289C78}"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C33E-AFE3-4F50-BE97-4AC6585AF07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E694-F374-48ED-9E62-4147A8E8222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8EEF-A5F7-404D-AE82-5E7AE9C756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9B20EA9-5AFB-4F73-8373-8C514F9DA3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62F8EC44-D9FF-4299-AD45-D143A22D5E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26D1-8086-4698-8B69-C9B4AE85411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60D3-F36E-46C9-97EE-A6400D18AD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EEEA-ECFC-45A3-9689-36B670B310E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2F8D-D731-421A-A264-03075E5602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C2E5-9B60-4EC4-B404-AE2DB2CEFFE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3149-39FB-4B03-A4E1-63DF9D8948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A00D-3472-40E5-BC96-111D0F0ACA7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2D3C-90C5-4950-9A77-97B8691A38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50EE-5BB1-4997-8A2F-F45CB1C6B5E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DBD8-375D-48F7-A17F-B83390DB8A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A4D8-3F9C-48A6-BDD2-65DF658726B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32F8-1875-408A-A212-D13F67C28B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8305-1927-46FE-B5B6-C558BD86A79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6ADE-2C61-4585-B673-66AECFB50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1529-2BC1-4A33-88DD-188244E4438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1263-E5C2-4D17-AC0C-A55F9035A9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DD1B-378A-486E-A1EC-F0E12E7D682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A9A5-D578-4B39-98BF-C0B24F059F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E61B-83F0-4222-A9DF-B3AF4521073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E54F-257C-4EED-B4A3-D598EF7B9E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A7D2-CDBC-4D4B-A47C-02769BC3CC1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5F95-E060-4AEF-8FBA-80D9522C73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BCEC6-025D-42A8-8E6E-3B735EDEE4A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C712-23B2-45D7-8B11-26A5D6240D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3976-832A-4323-87AD-E339AFA142F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D570-1234-48DE-AF4F-EA1F7D98BB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348B-361F-4BFB-930B-791667E9371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F217-9E9D-4DDB-AD89-A606610D63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78CC-8CEF-4297-A4F4-1E0AEE2765B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6A7E-03C3-4341-8238-9234017365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8DA2-DBB5-4D9C-AFDB-B491B8A26DF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F184-7668-458A-8E8D-11C5D0F0DE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C52F-CF50-414A-9555-7B7F1C551B2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CE19-8E74-4CB8-98E1-72DF357FC7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4F1B8D0D-8A19-4CFE-865A-BCEB7D75F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2F30-4B80-49FC-AD5E-143B81E32C6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E016-0CDC-45AD-A8D2-C8D57BEA36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A383-BAC6-43F4-9007-592BB2021A5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9E11-E5F1-46D9-8F56-B91FBFDFE4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123F-2097-4F88-8397-161D4F6FBA2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F51F-D9AC-4396-9AB6-38C4EF65B3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BB0F-B26F-4259-929F-256938D2164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6946-27FF-4CBC-9A79-C96781D1EC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CE71-EC0C-4316-9E30-5293CBA8D6E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4F4A-55F0-412E-A3B6-CD331F7AF1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3653-2022-44D1-9C0F-1BB2CDA2B3E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30A6-F4BD-4499-8E21-D406C6C51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05A2-60FF-4923-B139-AD842DC7C0F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5066-6C0F-4F9E-8607-75BA9EDB45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4AAC-FC0C-419D-BB45-8384434B180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9E4B-247C-413D-ACC0-EE16F0BCA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7DB2-DC92-48DF-B983-C34F794B962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895-830E-4A61-84C7-CA0EF46BEE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EA10-9A4E-44D4-A23B-41BFEDCD022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94C0-1623-4A45-8EAD-4FFC11A9EC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BF8E-0819-4EB0-85B8-336896186AE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5258-56A1-4A51-8EBE-FB6A8FBA2F4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8C56-E69A-4234-ACF8-2524531B7FB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A3C2-9069-4B82-810D-ABF7E69648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EFD3-C7E2-4604-B6B9-5DD530E0B97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454E-47B0-409E-A0AA-16C44E6D38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E42F-98C4-493F-9A4F-FA32E6CC5FD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C8D5-7835-4447-AC49-0B2A26D7F5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C86E-052A-4B20-98DD-C22C27318BB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F631-9C8E-45AB-93FD-EA13C7945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B74D-456A-4EEC-A1ED-F8316B86C2C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1F4B-D11D-46D8-BD4F-B05646EEE6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66F9-DF14-441B-B0AD-C893A05FC7D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1A7D-34D1-4A82-81C1-F98D98FE17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369-4994-4984-A5AF-CA93E12ADF2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7DC4-79E6-4AB8-B2CD-B597694D7A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F3CE-63B0-4CF3-A2EF-25BB3630CB7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A99E-C63E-45E8-B3CB-AFC5944D4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07F2-BA0E-4DAF-8A70-AC11471ABE8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CAC3-F092-48A0-8269-400070FC96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2AC0-6F08-402B-8EC4-627319AE6D2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F967-738B-417A-91B8-E4773BFA2C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7390-C0BA-4291-B3BA-19BD0D50DEB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9E99-F360-45B2-95B3-78B381848B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F9E0-5749-41DA-A5A7-70B71613975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B20-0755-42BA-B286-70E119050B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47E2-6078-4E9D-8ECA-964BA2989E3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AE10-5999-49C8-B860-0CD0198A08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9EF43-5667-4C66-8A24-6AB2AC9C113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740C-23F5-42B4-BF38-AD40497072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69B9-1C9A-420E-AFC7-564A5693B72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1FEA-68BA-43B1-A55E-70EE3CEC36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7DFD-F985-48E1-9421-31EEB5F64FA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10AA-B02E-43EA-8ECE-302D477EE7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8DCB-A380-4CB4-8000-97AD6483A22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53D8-1281-4B57-B56E-5859E7892A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7813-2E59-42F9-974F-416904E7B8F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DDAE-BE09-4E05-98F3-76124EB49A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A8A9-35FB-4998-9EE0-9FECE7408EF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4709-AED8-4A2B-ACC4-2DEB792282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4403-56A8-490A-96E1-2B536FDFF75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AEFA-634C-44A2-8977-D883C4770D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4CEA-D3EB-4612-8E39-8DC2013EC7E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8DFD-BB46-48CB-8235-BE15CD0427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D381-5F48-4AA4-B5EE-D2C5D7CAFB8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6BD0-3897-43B5-837A-B3C7661E72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90AA-70C9-4873-BCE5-4843AF3AD90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CD1E-0AAC-4DD6-94CE-D82495E171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671B-A55E-4D06-B769-816E7720FFE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A1DE-A72B-46A9-81B5-B1DD6A1E3F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2CC4-71B5-446E-8C1E-7927C702630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B855-64BD-4EF4-8AEE-94EB1C3305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9725-1623-4FAC-BFE1-29214786157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83AB-C2D0-4E53-95FE-032AC02BEA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3616-53BC-4B3F-BF40-15672967FFA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DA80-9DCC-432C-BA71-34DFE5981E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5C9B-8A70-4B89-BC86-3547948435D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9D90-EBE1-4048-BA5F-06AD83A3DA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57A8-C94C-41D2-9129-1E67E91377A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691D-732C-426D-A307-24DDA6CEBB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51D1-7B2E-4A69-95DF-A8BE83A2BF8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34B8C-AC49-48C9-AB27-55B2B970DE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BBA7-497A-4D1E-93E4-8CFA7B5F128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0D23-B0C0-4900-BC02-7ED88CAEB4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5A6B-189D-436C-8383-0B600C6BA54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F56F-75FF-4C82-9337-7C7D9CA2CC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1862-DB34-4F9B-A65E-7CF9B3FCF38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D4E-43B1-467E-BC5A-8F62DFFEC4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10F-04EF-4B02-8558-DF51C8B757B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3CB2-A389-4EF0-B37F-D7371248DD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82AE-56A0-4896-B610-9121ABF72D5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C59A-202C-435F-B6E3-C6FFF3B59F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7AB7-F4F3-422C-A3D9-41DDE307C84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DB61-DE26-492F-8C3B-2DE1C80F4A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31C5-4AF9-432A-8AFA-6A09959E64C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320F-6703-456B-A3E3-1B2320B0C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F221-8312-4E5C-B890-59E362C8BB1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52DC-8827-4977-8F95-6339CCE46E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403D-A8BA-4AA0-A58C-5FD68FF7556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F617-6974-4F93-9101-C8DEBE1077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3D91-C662-4981-BE52-7BEC074647B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80F9-C70C-4B1D-8248-4BE3492F74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FD82-C47A-452F-9C29-A0D51D30414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7F58-C9A1-4584-B824-3143CE5916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8F1C-D151-411E-BBDF-D11780619F8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A7C8-38A8-4B21-B1B5-9D767A22DE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848E-968A-474F-B903-63A3691D8B6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B2B2-A63D-4FBE-8F5B-6A392DCAB1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6AC6-CDB0-4D30-83D5-C2C01B942A6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D674-17A8-4DD6-82FA-BBCE4872F7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1-07-20T13:59:20Z</dcterms:modified>
  <cp:revision>242</cp:revision>
  <dc:subject>Freedom</dc:subject>
  <dc:title>LBO General Discussion</dc:title>
</cp:coreProperties>
</file>